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885-1A59-4CD0-ABE4-A13A338A46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presentação é de apenas 15 minutos. Está tudo muito por cima, dos algoritmos não dá pra entender na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artigo recente é de Timo Knuutil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225-FB3A-49DE-94C7-5C4BBB77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1B1-27F7-45E9-BF42-3B71775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E67-1298-4B30-95B5-6C2D06DB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D81-93A2-4C1A-AF47-4B824B0F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065-990D-407D-B8AB-D144FDC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64E-A1BA-4DD6-984F-9B29B29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7C0-FD95-4EA4-B6F7-95258DB9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C1D-5520-49C6-9936-B58A6135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8B09-9DDB-4425-B451-4D5C6B55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3C8-20BB-438E-B751-8B1BA00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F75-415E-45FA-9B56-41DAEA2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693-E778-45A1-84E2-094427D8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D714-AEFB-415D-9429-4CA53A7002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499 – Trabalho de Formatura Supervisionado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E-USP – BCC, 2001 – Prof. responsável: Carlos Eduardo Ferreira</a:t>
            </a:r>
            <a:br>
              <a:rPr sz="20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o de Iniciação Científi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ômatos Finitos: Algoritmos e Estruturas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lsa PIBIC/CNPq – março/2001 a fevereiro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no: Leo Kazuhiro 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ora e Orientadora: Nami 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que faz de fato o algoritmo s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log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 ordem em que são feitas as divisões, e essa é principal característica do algorit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sa complexidade de tempo depende de uma implementação eficiente de algumas estruturas de dados (listas ligadas e conjun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gasto com as estruturas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Revu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É aplicado em autômatos acíc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 complexidade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n) de tempo e espaç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autômato acíclico é um autômato cujo grafo é acíc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tômatos acíclicos são muito usados para representar dicionários e manipular funções boole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icialmente é calculada uma partiçã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... , onde um estado pertence ao bloc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se a sua altura é i. A figura ilustra essa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v-alturas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4383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Idé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nomear cada estado de um bloco de acordo com as suas transições, de forma que um estado é equivalente a outro sse têm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seguida ordenamos os nomes de cada bloco para encontrarmos os nomes ig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v-ex1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9325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uz –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ordenação deve ser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ordenação proposta por Revuz é semelhante ao radix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ém disso, os nomes dados aos estados não podem ser muito grandes (têm que ser de alguma forma lineares també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 problema de busca de padr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udamos também a aplicação de Autômatos Finitos num caso de busca de padrões nu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ados um dicionário K com palavras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,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um texto x, também uma palavra 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saber quais palavras de K ocorrem em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algoritmo de Alfred Aho e Margaret Corasick constrói um autômato que reconhece a linguagem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busca de x nesse autômato consome tempo linear no tamanho de x, ou seja, independe de 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Exemp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 para K = {he, she, hers, his}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c-aut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005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ho-Corasick - Observ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mpo de construção do autômato pode ser linear no tamanho d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espaço também pode ser linear em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as complexidades de tempo e espaço dependem muito da implementação. Em geral é feita uma troca de espaço por tempo ou vice-ve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rução utiliza as mesmas idéias do algoritmo K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mos os três algoritm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das implementações era apenas compreender melhor os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ou discussões interes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ustraçõ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balho praticamente indiv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não muito concr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 que esse t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inal de 2000 estava procurando por um projeto de iniciação científ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os assuntos aparentemente interessantes e pouco conhecimento sobre eles: indeci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a. Nami ofereceu aju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squisei vários projetos em Autômatos, mas continuei com o mesm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mos então est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experiência foi positiva, aprendi ba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forma de trabalho com a orientadora foi uma novidade interess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disciplinas que eu apliquei diretamente neste trabalho fo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ômatos e Graf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de Algoritmos e Geometria Computacional, para a parte de análise de algoritm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disciplinas básicas e de programação, como ED, Lab 1 e 2, POO, Concorrente, X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Proj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adquirir mais conhecimentos fundamentais da Teoria de Autômatos Finitos para poder futuramente estudar aplicações mais compl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é agora estuda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mos de Minimização de Autômatos Fin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de Revuz para autômatos acíc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ão num problema de busca de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mo Aho-Coras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 pouco de Autômato dos Sufi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ó lembrand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utômato é uma quíntup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conjunto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 o alfabeto (conjunto de símbol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 a função de trans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o 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é conjunto dos estados fi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mos que n é o número de estados do autômato (n = |Q|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oritmo de Hopcro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197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hn Hopcro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 novo algoritmo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rtigo original era muito complicado, entã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vid G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ublica uma descrição mais clara (com uma pequena modificaç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outro artigo recente afirma que, ao contrário do que todos acreditam,  a versão de Hopcroft não é O(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n log 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blema que queremos resolver é minimizar o número de estados de um autômato finito determiní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outras palavras, dado um autômato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queremos encontrar o autômato minimal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m o menor número de estados e tal que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= L(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os já devem ter visto um algoritmo básico O(|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|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(ou pior) no curso de Autômatos. A idéia dos dois algoritmos apresentados aqui é parec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idéia bás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três algoritmos de minimização procuram pelas classes de equivalência 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lasses de equivalência representam estados no autômato minim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lasses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72849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Iní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algoritmo começa com uma partiçã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do apenas dois blo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hop-ex1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147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pcroft – Operação de di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 seguida, os blocos da partição são divididos de forma que, no final, cada bloco represente uma classe de equival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 de divisão de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 relação a (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p-ex2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9:11Z</dcterms:created>
  <dc:creator>Leo Kazuhiro Ueda</dc:creator>
  <dc:description>Apresentação de MAC 499 com algumas pequenas correções (feitas depois da apresentação)</dc:description>
  <dc:language>en-US</dc:language>
  <cp:lastModifiedBy>Leo Kazuhiro Ueda</cp:lastModifiedBy>
  <dcterms:modified xsi:type="dcterms:W3CDTF">2001-12-07T02:34:11Z</dcterms:modified>
  <cp:revision>28</cp:revision>
  <dc:subject/>
  <dc:title>MAC 499 – Trabalho de Formatura Supervisionado IME-USP – BCC, 2001 – Prof. responsável: Carlos Eduardo Ferreira  Projeto de Iniciação Científica Autômatos Finitos: Algoritmos e Estruturas de Dados</dc:title>
</cp:coreProperties>
</file>