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CFA-D68C-45D9-90F4-EB57A1F5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162-D90B-486D-81B4-74990D61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FFC-6303-479D-8AE5-690C309A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0C9-9407-40AB-946F-99044F6A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F050-9C7E-4C76-AA79-FA9E1251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146A-24FB-44BF-BA74-A2D8F40E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B0B5-8C6B-4C89-99AE-70A9E85C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231C-EF2B-4255-B95D-4069D9BD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9DF3-6430-4EDC-AD24-AF6F4FBF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FBF5-A490-412F-BF9F-26B6F28A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1BD6-DE39-4B6D-B9D9-FB1931AA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76C-F759-4152-9BE2-933D0272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DF09-10C4-4373-BCEA-D9401307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15AC-6CA8-4161-8618-237C1ED4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3160-2DE6-43D6-A1DD-BB984577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4819-40B4-4962-86A1-C5BCA0DA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76C2-2423-497C-A846-90B4AA5F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07CBE-43CC-462C-9459-4091159E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0460-8D8A-43BB-BA98-1AB96579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06A94-D291-4093-B345-8D66FA9F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B959F-EB24-48E3-9271-258A31AF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40539-4662-433B-817C-19AED0F8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CBB-AA0F-4A11-97BA-102CE3C8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44C76-0274-4011-AD23-F84EE093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7BBEA-7397-4416-B211-537D3BFA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99CFE-8B73-4FDC-81C2-3D61A390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BC422-B56B-4398-A47E-3ABDBB26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44BC1-E00F-4BE0-BA6C-15204E39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BC93C-DB56-404D-839F-C7D44E1F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D6D5F-C3E8-4D68-B07A-34C64205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F7946-EF3A-408C-926A-BEB02903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EAF74-290F-49CB-AC3D-F972391C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BCBAF-BF02-48B1-A4F0-A3DAC836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03F6-DC0E-45AC-AD00-443F0995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32DF2-D556-4397-A1B5-00692DB2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7DC16-6AD8-4367-B4CE-025AE59A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7859F-4C44-46FB-9428-81CCC387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B2933-648B-474B-B62E-C299FB1A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FBBDD-F0BB-4629-9DC3-443CD49C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DD16F-EFB3-4B9A-82E1-31F6566E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5B004-1962-460A-B2DE-AFCD3280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AB0C3-8444-4AE6-8A1E-BBEA6DAC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1AB6A-8BA1-49B1-A004-14DBDC42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951-B02F-4516-9B97-67673479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5C73-A289-4D6B-A92F-AB9985D4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EDE-A947-4113-A430-2D38F9D7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D02-8D09-4F3F-8392-11DEBA76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04E-B247-4D61-A4AD-2618E60F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DD55-D741-4F70-9A34-F4A3B18638E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orma liv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orma liv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45EF-D314-4B3E-B6A4-E71ECCAC33B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a liv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orma liv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orma livre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CC7F-AEE0-41C1-9EE7-DA0D3F51A2F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tângulo com Único Canto Aparado e Arredondad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ângulo retângu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orma liv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orma liv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AA2D-29D8-4122-89C7-4029436038D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ítulo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45007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Constantia"/>
              </a:rPr>
              <a:t>Aluno: Gustavo Henrique Brag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Constantia"/>
              </a:rPr>
              <a:t>Orientador: Valdermar W. Setz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Estado Atu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onsole de linha de comando para controle fino de cada aspecto do progra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emonstração das técnicas de recuperação de erro (com e sem sucesso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uxílios visuais (identação automática, coloração) para códig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Mais Desenvolviment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Implementação adaptadores (de entrada e saída) para permitir que o interpretador seja controlado por um programa externo, e que diferentes tipos de saída possam ser gerados (ex: uma planilha, um gráfico 3D, uma seqüência de son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Mais controle sobre as políticas de validação de gramátic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Modo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Debug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epuração visual da gramát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Mais flexibilidade para Impl. de novos analisad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Terminando.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 última versão pode ser encontrada em: </a:t>
            </a:r>
            <a:br>
              <a:rPr sz="2600"/>
            </a:br>
            <a:br>
              <a:rPr sz="2600"/>
            </a:b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linux.ime.usp.br/~henrick/mac499/dev-ggas.zi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 o manual, documentação...</a:t>
            </a:r>
            <a:br>
              <a:rPr sz="2600"/>
            </a:br>
            <a:br>
              <a:rPr sz="2600"/>
            </a:b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linux.ime.usp.br/~henrick/mac499/manual.html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Visão Ger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nalisadores Sintáticos, juntamente com analisadores léxicos são componentes fundamentais dos compilad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Sistema permite a criação e manipulação de representações visuais de gramáticas livres de contex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stas representações, juntamente com definições adicionais, são convertidas em tabel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stas tabelas, mais um interpretador genérico, são usadas para compor um analisador sintátic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Motivaçõ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rover uma ferramenta gráfica flexível e de uso intuitivo para a criação e depuração de compilad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isponibilizar uma alternativa em software livre para os analisadores sintáticos mais comu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ferecer um sistema útil para fins didáticos e para criação dinâmica de protótip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ermitir a implementação e integração de analisadores sintáticos adiciona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Analisador Sintát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Fundamenta-se num analisador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top-down 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que aceita uma subclasse das gramáticas LL(1)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(ESLL(1)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bordagem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top-down 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ossibilita um entendimento intuitivo do processo de análise sintática e do grafo sintát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É fácil acompanhar as pilhas sintáticas e semânt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etecção de erros da gramática direta e eficaz, além facilidade de correçã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specificação de rotinas semânticas em qualquer ponto de um lado direito de uma produçã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Siste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Uma versão preliminar foi parcialmente desenvolvida como um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plugin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para plataforma eclipse (Luiz Fernando dos Santos Pereir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Queríamos um sistema totalmente autônomo, embora o esquema de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docking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tenha funcionado tão bem : -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esenvolvido em java, uma preocupação era manter o código “civilizado”, atentando para padrões de O.O. bem conhecidos e MV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Siste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Reaproveitamento de código aberto disponíve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http://www.jedit.org/images/logo64.png"/>
          <p:cNvPicPr/>
          <p:nvPr/>
        </p:nvPicPr>
        <p:blipFill>
          <a:blip r:embed="rId1"/>
          <a:stretch/>
        </p:blipFill>
        <p:spPr>
          <a:xfrm>
            <a:off x="857160" y="264312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http://1.bp.blogspot.com/_G0-jzqyHnQo/SnhJB4V3pII/AAAAAAAAAPo/Kkd2uFBqrzY/s400/netbeans_logo_ok-300x150.jpg"/>
          <p:cNvPicPr/>
          <p:nvPr/>
        </p:nvPicPr>
        <p:blipFill>
          <a:blip r:embed="rId2"/>
          <a:stretch/>
        </p:blipFill>
        <p:spPr>
          <a:xfrm>
            <a:off x="1857240" y="2571840"/>
            <a:ext cx="1214640" cy="668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http://www.beanshell.org/images/beany2-200.jpg"/>
          <p:cNvPicPr/>
          <p:nvPr/>
        </p:nvPicPr>
        <p:blipFill>
          <a:blip r:embed="rId3"/>
          <a:stretch/>
        </p:blipFill>
        <p:spPr>
          <a:xfrm>
            <a:off x="3357720" y="2500200"/>
            <a:ext cx="714240" cy="868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http://htmlparser.sourceforge.net/images/htmlparserlogo.jpg"/>
          <p:cNvPicPr/>
          <p:nvPr/>
        </p:nvPicPr>
        <p:blipFill>
          <a:blip r:embed="rId4"/>
          <a:stretch/>
        </p:blipFill>
        <p:spPr>
          <a:xfrm>
            <a:off x="4357800" y="2571840"/>
            <a:ext cx="765000" cy="642960"/>
          </a:xfrm>
          <a:prstGeom prst="rect">
            <a:avLst/>
          </a:prstGeom>
          <a:ln w="0">
            <a:noFill/>
          </a:ln>
        </p:spPr>
      </p:pic>
      <p:sp>
        <p:nvSpPr>
          <p:cNvPr id="211" name="CaixaDeTexto 7"/>
          <p:cNvSpPr/>
          <p:nvPr/>
        </p:nvSpPr>
        <p:spPr>
          <a:xfrm>
            <a:off x="5608440" y="27147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nstantia"/>
              </a:rPr>
              <a:t>E outros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Siste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Espaço Reservado para Conteúdo 5" descr="srB2.png"/>
          <p:cNvPicPr/>
          <p:nvPr/>
        </p:nvPicPr>
        <p:blipFill>
          <a:blip r:embed="rId1"/>
          <a:stretch/>
        </p:blipFill>
        <p:spPr>
          <a:xfrm>
            <a:off x="355680" y="1785960"/>
            <a:ext cx="8574120" cy="4922640"/>
          </a:xfrm>
          <a:prstGeom prst="rect">
            <a:avLst/>
          </a:prstGeom>
          <a:ln w="0">
            <a:noFill/>
          </a:ln>
        </p:spPr>
      </p:pic>
      <p:sp>
        <p:nvSpPr>
          <p:cNvPr id="214" name="Texto Explicativo 2 3"/>
          <p:cNvSpPr/>
          <p:nvPr/>
        </p:nvSpPr>
        <p:spPr>
          <a:xfrm>
            <a:off x="2786040" y="2928960"/>
            <a:ext cx="1714680" cy="1357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5754"/>
              <a:gd name="adj6" fmla="val -63291"/>
            </a:avLst>
          </a:prstGeom>
          <a:solidFill>
            <a:srgbClr val="009dd9">
              <a:alpha val="43000"/>
            </a:srgbClr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4617b"/>
                </a:solidFill>
                <a:latin typeface="Constantia"/>
              </a:rPr>
              <a:t>Área de desenho, com caixa de ferrament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o Explicativo 2 4"/>
          <p:cNvSpPr/>
          <p:nvPr/>
        </p:nvSpPr>
        <p:spPr>
          <a:xfrm>
            <a:off x="5500800" y="2928960"/>
            <a:ext cx="1714320" cy="928800"/>
          </a:xfrm>
          <a:prstGeom prst="borderCallout2">
            <a:avLst>
              <a:gd name="adj1" fmla="val 18750"/>
              <a:gd name="adj2" fmla="val -8333"/>
              <a:gd name="adj3" fmla="val 37930"/>
              <a:gd name="adj4" fmla="val 136407"/>
              <a:gd name="adj5" fmla="val 152476"/>
              <a:gd name="adj6" fmla="val 162509"/>
            </a:avLst>
          </a:prstGeom>
          <a:solidFill>
            <a:srgbClr val="009dd9">
              <a:alpha val="43000"/>
            </a:srgbClr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4617b"/>
                </a:solidFill>
                <a:latin typeface="Constantia"/>
              </a:rPr>
              <a:t>Arquivos do projeto </a:t>
            </a:r>
            <a:r>
              <a:rPr b="0" i="1" lang="pt-BR" sz="1800" spc="-1" strike="noStrike">
                <a:solidFill>
                  <a:srgbClr val="04617b"/>
                </a:solidFill>
                <a:latin typeface="Constantia"/>
              </a:rPr>
              <a:t>(sem, gram, lex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Siste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Espaço Reservado para Conteúdo 3" descr="srB3.png"/>
          <p:cNvPicPr/>
          <p:nvPr/>
        </p:nvPicPr>
        <p:blipFill>
          <a:blip r:embed="rId1"/>
          <a:stretch/>
        </p:blipFill>
        <p:spPr>
          <a:xfrm>
            <a:off x="214200" y="1785960"/>
            <a:ext cx="8643960" cy="4956120"/>
          </a:xfrm>
          <a:prstGeom prst="rect">
            <a:avLst/>
          </a:prstGeom>
          <a:ln w="0">
            <a:noFill/>
          </a:ln>
        </p:spPr>
      </p:pic>
      <p:sp>
        <p:nvSpPr>
          <p:cNvPr id="218" name="Texto Explicativo 2 4"/>
          <p:cNvSpPr/>
          <p:nvPr/>
        </p:nvSpPr>
        <p:spPr>
          <a:xfrm>
            <a:off x="6929280" y="1357200"/>
            <a:ext cx="1714680" cy="7858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98162"/>
              <a:gd name="adj6" fmla="val -39740"/>
            </a:avLst>
          </a:prstGeom>
          <a:solidFill>
            <a:srgbClr val="009dd9">
              <a:alpha val="43000"/>
            </a:srgbClr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4617b"/>
                </a:solidFill>
                <a:latin typeface="Constantia"/>
              </a:rPr>
              <a:t>Editor de rotinas semântic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o Explicativo 2 5"/>
          <p:cNvSpPr/>
          <p:nvPr/>
        </p:nvSpPr>
        <p:spPr>
          <a:xfrm>
            <a:off x="6215040" y="4071960"/>
            <a:ext cx="1714680" cy="7858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70958"/>
              <a:gd name="adj6" fmla="val -35583"/>
            </a:avLst>
          </a:prstGeom>
          <a:solidFill>
            <a:srgbClr val="009dd9">
              <a:alpha val="43000"/>
            </a:srgbClr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4617b"/>
                </a:solidFill>
                <a:latin typeface="Constantia"/>
              </a:rPr>
              <a:t>Tabela do analisad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o Explicativo 2 6"/>
          <p:cNvSpPr/>
          <p:nvPr/>
        </p:nvSpPr>
        <p:spPr>
          <a:xfrm>
            <a:off x="3286080" y="5929200"/>
            <a:ext cx="2786040" cy="7146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8162"/>
              <a:gd name="adj6" fmla="val -44537"/>
            </a:avLst>
          </a:prstGeom>
          <a:solidFill>
            <a:srgbClr val="009dd9">
              <a:alpha val="43000"/>
            </a:srgbClr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4617b"/>
                </a:solidFill>
                <a:latin typeface="Constantia"/>
              </a:rPr>
              <a:t>Rastreamento das pilhas sintática e semânti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o Explicativo 2 7"/>
          <p:cNvSpPr/>
          <p:nvPr/>
        </p:nvSpPr>
        <p:spPr>
          <a:xfrm>
            <a:off x="7143840" y="5929200"/>
            <a:ext cx="1714320" cy="5000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53560"/>
              <a:gd name="adj6" fmla="val -31425"/>
            </a:avLst>
          </a:prstGeom>
          <a:solidFill>
            <a:srgbClr val="009dd9">
              <a:alpha val="43000"/>
            </a:srgbClr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4617b"/>
                </a:solidFill>
                <a:latin typeface="Constantia"/>
              </a:rPr>
              <a:t>Interpretad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Estado Atu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Gerenciamento de Projet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Geração de códig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specificação e modificação em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runtime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de rotinas semânticas associadas aos lados direitos das produçõ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onfiguração das especificações para o analisador léxico (Yyle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Impressão de pilhas sintática e semânt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Rastreamento dos toke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01:52:11Z</dcterms:created>
  <dc:creator>Gustavo</dc:creator>
  <dc:description/>
  <dc:language>en-US</dc:language>
  <cp:lastModifiedBy>Gustavo</cp:lastModifiedBy>
  <dcterms:modified xsi:type="dcterms:W3CDTF">2009-11-17T15:23:10Z</dcterms:modified>
  <cp:revision>22</cp:revision>
  <dc:subject/>
  <dc:title>Slide 1</dc:title>
</cp:coreProperties>
</file>